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3BF-BEEE-4A22-8232-0F9C43BC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0B7-BCE5-423A-91E2-3A9A52BD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B10-87F6-4CFA-8534-B705F4F4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6B1B-70B7-4D00-B6F3-516C33CE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2FA-14F4-4488-96E5-D392791A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E6A-E897-445F-A2FF-181E4F7B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BD4-851F-4616-82BE-F2CFADC1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A01-753F-45C9-B4B1-43FFE168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C71-4539-425E-8E2C-512E3F9B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5B6-9F33-4BD6-A0F0-E523D2C6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AD8-EEC2-4345-99C1-6376798E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C16-F8CC-4FBB-8769-4E9284A4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30BC-9FD0-4C9F-9860-A4649316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les for Major Markets 2000-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981080" y="2743200"/>
          <a:ext cx="48816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743200"/>
                    <a:ext cx="4881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les 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59436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he chart to see the d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6:24:00Z</dcterms:created>
  <dc:creator/>
  <dc:description/>
  <dc:language>en-US</dc:language>
  <cp:lastModifiedBy>Larry Metzelaar</cp:lastModifiedBy>
  <dcterms:modified xsi:type="dcterms:W3CDTF">2002-03-21T11:05:39Z</dcterms:modified>
  <cp:revision>12</cp:revision>
  <dc:subject/>
  <dc:title>Sales for Major Markets for 1997-2000</dc:title>
</cp:coreProperties>
</file>