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92B-73C2-47C3-ADB7-464A0D37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CE5C-BBFB-414E-AFE5-27F0915C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41E-D47C-4842-B9EB-2D84C979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E74-E3B4-4878-8E81-669FB856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AC58-9C39-4380-8D3E-56D14BDF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2E2-34FA-4802-9DA1-F85341D4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B94-1847-4C72-B233-99274241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52F-93E7-4F6A-985F-4D19467E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8F9-20FF-44BA-9B9C-30BF8A60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718-3CAE-4EAA-9FF9-4CBED974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C16-066F-4C93-802D-59BBC99E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4083-2CAF-45AD-997B-B10F878D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ECB8-0446-4FDC-BF2E-1CCB0683F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siness Expense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ler Bulldog Souvenir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age by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2535480" cy="1727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563868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1T05:13:21Z</dcterms:created>
  <dc:creator/>
  <dc:description/>
  <dc:language>en-US</dc:language>
  <cp:lastModifiedBy>Larry Metzelaar</cp:lastModifiedBy>
  <dcterms:modified xsi:type="dcterms:W3CDTF">2002-03-25T21:52:50Z</dcterms:modified>
  <cp:revision>4</cp:revision>
  <dc:subject/>
  <dc:title>Business Expense Analysis</dc:title>
</cp:coreProperties>
</file>