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5E1-2853-44B1-86C0-7A70028D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519-4319-4B5E-BFF5-062B0B96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74E-D878-42A9-98C0-8897A290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D773-9066-42E4-8835-6A9C38A1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A28D-28F1-4D16-B965-42FBF88F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F72-73D7-4214-A3C0-12FBF324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B9B-84E1-4A8B-A363-6A5262C6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212-825D-425B-8D18-85EC1405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AC86-D59F-428C-B57C-0B9ED34D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E9A-B37C-4ED5-A966-17493D70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327-F33C-4212-BDDE-25556505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92E-8CBB-47BE-8A94-F3892DAB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6A33-2E27-42AE-A50F-DF30DD082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les for Major Markets 2000-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981080" y="2743200"/>
          <a:ext cx="48816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48816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87280" y="2995560"/>
            <a:ext cx="6372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les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59436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he chart to see the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1665360"/>
            <a:ext cx="612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6:24:00Z</dcterms:created>
  <dc:creator/>
  <dc:description/>
  <dc:language>en-US</dc:language>
  <cp:lastModifiedBy>Larry Metzelaar</cp:lastModifiedBy>
  <dcterms:modified xsi:type="dcterms:W3CDTF">2002-03-21T19:00:59Z</dcterms:modified>
  <cp:revision>13</cp:revision>
  <dc:subject/>
  <dc:title>Sales for Major Markets for 1997-2000</dc:title>
</cp:coreProperties>
</file>